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1.xml.rels" ContentType="application/vnd.openxmlformats-package.relationships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F9E7-935D-407A-B351-59D20C72CBA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米诺环素产生独特的</a:t>
            </a:r>
            <a:r>
              <a:rPr b="0" lang="zh-CN" sz="1200" spc="-1" strike="noStrike">
                <a:solidFill>
                  <a:srgbClr val="cc3300"/>
                </a:solidFill>
                <a:latin typeface="Calibri"/>
                <a:ea typeface="宋体"/>
              </a:rPr>
              <a:t>前庭反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7D1FD-0006-4604-8457-3B4D2E8F38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06F7B-C989-467B-97CF-77CAD8AD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968F4-CD95-40FE-AA6E-34B4FB58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A3CB-CE47-40CC-8F79-D6FA246184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E676D-7278-4326-A6B8-3B46E8F5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B0359-757D-455F-9040-09DE9C46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47C31-EFA9-4DDF-A8EB-3476C115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E40F-F734-416C-9D68-3FBD3331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4AC1-2839-44DC-8C38-A870EADE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C2BA-93FC-4B89-9B15-1CD9BAFE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40C27-B14F-498E-AC34-A7605173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F2764-15C3-4E3F-9007-C6FBA69A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1849-42BE-4018-907C-F4EFD7E17D7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章  抗生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青霉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源与性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又称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由青霉菌培养液提取而得，因侧链为苄基，故又称苄青霉素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nzylpenicil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性质为有机酸，常用其钠盐或钾盐。其干燥粉末在室温下稳定，极易溶于水，但水溶液稳定性差，室温下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大部分降解失效，并生成具有抗原性的降解产物，故必须临用前配制。遇酸、碱、醇、重金属离子及氧化剂易分解破坏，应避免配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口服，肌内注射吸收迅速且完全。能广泛分布于全身各部位。全部以原型迅速经尿排泄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水溶液、混悬剂和油剂，后两种制剂的血药浓度均很低，不适用于急性或重症感染，仅用于轻症患者或预防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很强，对繁殖期细菌抗菌活性强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少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螺旋体、放线杆菌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作用较弱，对肠球菌不敏感，对真菌、原虫、立克次体、病毒等无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黄色葡萄球菌、淋病奈瑟菌、肺炎球菌、脑膜炎奈瑟菌等极易产生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可作为治疗敏感的革兰阳性球菌和杆菌、革兰阴性球菌及螺旋体所致感染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球菌引起的大叶性肺炎、支气管肺炎、脓胸、急性支气管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敏感的金黄色葡萄球菌引起的疖、痈、脓肿、败血症等；溶血性链球菌引起的咽炎、中耳炎、扁桃体炎、丹毒、猩红热、心内膜炎、蜂窝织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草绿色链球菌引起的心内膜炎，因病灶部位形成赘生物，药物难以透入，常需大剂量静滴才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9640" y="1123920"/>
            <a:ext cx="74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淋病奈瑟菌引起的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脑膜炎奈瑟菌引起的流行性脑脊髓膜炎，可与磺胺嘧啶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、气性坏疽、破伤风和流产后产气荚膜梭菌引起的败血症等，治疗时必须配合抗毒素血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放线杆菌引起的放线杆菌病；螺旋体感染引起的梅毒、回归热、钩端螺旋体病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12392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超敏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最常见，过敏性休克的防治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仔细询问过敏史，对青霉素过敏者禁用；②避免滥用和局部用药；③避免在饥饿时注射青霉素；④不在没有急救药物（如肾上腺素）和抢救设备的条件下使用；⑤初次使用、用药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以上或换批号者必须做皮肤过敏试验，反应阳性者禁用；⑥注射液需临用现配；⑦患者每次用药后需观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反应者方可离去；⑧一旦发生过敏性休克，应首先立即皮下或肌内注射肾上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同时采用其他急救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赫氏反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Herxheimer reaction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苯氧甲青霉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非奈西林（苯氧乙青霉素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但抗菌活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轻度敏感菌感染、恢复期的巩固治疗和感染复发的预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耐酶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892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苯唑西林、氯唑西林、氟氯西林、双氯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、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抗菌活性较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耐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金黄色葡萄球菌感染，其中以双氯西林和氟氯西林作用较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01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氨苄西林、羟苄西林、匹氨西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对铜绿假单胞菌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菌所致的呼吸道、尿路、胆道、胃肠道、软组织、脑膜等感染以及伤寒的治疗，对严重病例可与氨基糖苷类抗生素合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66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抗铜绿假单胞菌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53640" y="1371240"/>
            <a:ext cx="736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羧苄、磺苄、替卡、呋苄、阿洛、哌拉、美洛西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不耐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铜绿假单胞菌有效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治疗烧伤继发的铜绿假单胞菌感染，也可用于治疗铜绿假单胞菌、大肠埃希菌、变形杆菌引起的尿路感染。与庆大霉素合用可增强抗菌作用，但应避免在同一容器中混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3068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节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6169-7AA7-4EAA-A29D-E5899361AA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五）主要作用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杆菌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52200" y="1371240"/>
            <a:ext cx="736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美西林、匹美西林、 替莫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作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尤对肠杆菌科细菌较强活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苄等；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差，对铜绿假单胞菌，不动杆菌属不敏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敏感菌引起的尿路感染和软组织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头孢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头孢菌素类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phalospor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由真菌培养液中提取的头孢菌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水解而得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头孢烷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minocephalosporanic ac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C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上不同侧链制成的半合成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抗菌谱、抗菌强度、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和肾毒性可分为四代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阳性菌的作用较第二、三代强，但对革兰阴性菌的作用弱，对铜绿假单胞菌、耐药肠杆菌和厌氧菌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较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敏感菌所致的呼吸道、泌尿道、皮肤及软组织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、革兰阴性菌均有高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酰胺酶高度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治疗对第三代头孢菌素耐药的细菌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92200" y="1268280"/>
            <a:ext cx="80121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毒性  第一代头孢菌素大剂量应用有肾毒性，禁与其他肾毒性药物（如氨基糖苷类抗生素、强效利尿药等）合用；第二代药物肾毒性较轻，第三代药物对肾基本无毒；第四代药物无肾毒性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第三、四代药物可致二重感染，头孢孟多、头孢哌酮可引起低凝血酶原血症或血小板减少。本类药物肌内注射引起局部疼痛；静脉给药浓度过大可致静脉炎；大量静注可引起高钠血症；大剂量应用偶致抽搐、昏迷等中枢症状；与乙醇合用可引起“双硫仑样反应”，应用期间及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内应忌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其他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3640" y="1196640"/>
            <a:ext cx="829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碳青霉烯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硫霉素、亚胺培南、美洛培南、帕尼培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铜绿假单胞菌，军团菌等），厌氧菌均极有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性极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需氧菌、厌氧菌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致的各种感染，也用于治疗其他抗菌药物疗效不佳的尿路、皮肤软组织、呼吸道、腹腔、妇科感染、以及败血症、骨髓炎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头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20200" y="1196640"/>
            <a:ext cx="808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头孢西丁、头孢美唑、头孢替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杀灭作用均较强，对厌氧菌高效，对耐青霉素金葡菌和对头孢菌素耐药菌有较强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治疗需氧菌和厌氧菌引起的盆腔、腹腔及妇科混合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不良反应有皮疹、静脉炎、蛋白尿、嗜酸性粒细胞增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氧头孢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拉氧头孢、氟氧头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和抗菌作用强度与第三代头孢菌素相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极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脑膜炎、呼吸道、尿路、胆道、妇科感染及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以皮疹最多见，偶见凝血酶原减少或血小板功能障碍而致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作用机制、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谱、临床应用、不良反应与用药监护、头孢菌素的不良反应与用药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产生耐药性的机制、半合成青霉素的特点、各代头孢菌素的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碳青霉烯类、头霉素类、单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及氧头孢烯类抗生素的主要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A7CD-4412-4312-BB70-1F9CCA5A86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单环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氨曲南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ztreona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阴性菌有强大的抗菌作用，对革兰阳性菌、厌氧菌作用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、低毒、体内分布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主要为皮疹、转氨酶升高、胃肠道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内酰胺酶抑制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5220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克拉维酸（棒酸）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舒巴坦（青霉烷砜），三唑巴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但抗菌活性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酶作用，与青霉素类，头孢菌素类合用有协同作用，使不耐酶抗生素的抗菌谱扩大，抗菌作用显著加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大环内酯类、林可霉素类和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65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大环内酯类、林可霉素类、万古霉素类抗生素的抗菌谱、作用机制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细菌对大环内酯类、万古霉素类抗生素产生耐药性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大环内酯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共同结构：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碳内酯环共同结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红霉素、竹桃霉素、克拉霉素、罗红霉素、地红霉素、泰利霉素和喹红霉素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阿奇霉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麦迪霉素、乙酰麦迪霉素、吉他霉素、乙酰吉他霉素、交沙霉素、螺旋霉素、乙酰螺旋霉素、罗他霉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大环内酯类的共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速抑菌药，高浓度时有杀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较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药物：主要对大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、厌氧菌和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奈瑟菌、流感嗜血杆菌、白喉棒状杆菌）有强大抗菌活性，对军团菌、弯曲菌、支原体、衣原体、弓形虫、非典型分支杆菌等有良好作用，对产酶的葡萄球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定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药物：抗菌范围扩大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阻断肽酰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-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移位，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抑制肽酰基的转移反应，选择性抑制细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、克林霉素和氯霉素在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上的结合点与大环内酯类相同或相近，故合用时可能发生拮抗作用，也易使细菌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   包括酯酶、磷酸化酶、甲基化酶、葡萄糖酶、乙酰转移酶和核苷转移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靶位的结构改变  核糖体的药物结合部位甲基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摄入减少   膜成分改变或出现新的成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排增多  通过基因编码产生外排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药耐药  大环内酯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阳菌素耐药，简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L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常用的大环内酯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红霉素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(erythromycin)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分布广、不易透过血脑屏障；碱性环境中抗菌活性强、主要经胆汁排泄。血药浓度低，组织浓度较高（痰、皮下、胆汁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青霉素弱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百日咳、流感、布氏、军团菌、空肠弯曲杆菌）作用强。对螺旋体、肺炎支原体、沙眼衣原体、立克次氏等有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带菌；支原体肺炎；沙眼衣原体致婴儿肺炎，结肠炎；弯曲杆菌致败血症，肠炎及军团病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青霉素的金葡及青霉素过敏者作为替代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红霉素常用剂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肠溶衣片，口服后在肠道中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依托红霉素，又称无味红霉素，为红霉素丙酸酯的十二烷基硫酸盐，耐酸，吸收好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硬酯酸红霉素，为糖衣片或薄膜衣片，对酸较稳定，耐酸，在小肠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琥乙红霉素，无味，对胃酸稳定，在肠道中以基质和酯化物的形式被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乳糖酸红霉素，为水溶性红霉素乳糖醛酸酯，用于静脉滴注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的眼膏制剂和外用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lactam antibiotic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指化学结构中含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的一类抗生素，包括青霉素类、头孢菌素类、非典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抗菌活性强、抗菌范围广、毒性低、疗效高、适应证广、品种多等优点，故在临床应用中颇受重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13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胃肠道反应   较常见，发生率与剂量大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肝损害  多见于酯化型红霉素，表现为转氨酶升高、肝肿大、黄疸等，一般停药数日可自行恢复。用药期间定期查肝功能，肝肾功能减退者应适当减量，肝病患者和妊娠期患者不宜使用酯化型红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听力损害  大剂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≥4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时，尤其肝、肾疾病患者或老年患者，可能引起听力减退，停药后大多可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过敏反应   偶见药物热、皮疹、嗜酸粒细胞增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局部刺激   静脉滴注浓度过高或滴速太快可引起血栓性静脉炎，静脉给药浓度不宜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1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大环内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克拉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强；对酸稳定，口服吸收迅速完全，不受进食影响，但首过消除明显 ；分布广泛且组织中浓度高；不良反应发生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阿奇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口服吸收快、组织分布广、血浆蛋白结合率低，细胞内浓度高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大环内酯类中最长者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~48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不良反应轻，肝肾功能不良者可以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林可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07840" y="126792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林可霉素和克林霉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骨组织及其他组织、体液中药物浓度高， 不易透过血脑屏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耐青霉素金葡菌），多数厌氧菌、肺炎支原体，衣原体有效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红霉素似，作用于核蛋白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，抑制肽酰基转移酶，与红霉素竞争结合部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引起的骨髓炎、关节感染、混合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 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胃肠反应，假膜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古霉素、去甲万古霉素、替考拉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吸收。分布广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胞壁黏肽合成，也抑制胞质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与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，用于耐药菌的严重感染、假膜性肠炎。不易产生耐药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反应大（耳、肾、红人综合征）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替考拉宁毒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6680" y="256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第三节  氨基糖苷类和多黏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氨基糖苷类抗生素的共性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常用氨基糖苷类药物的特点、多黏菌素的抗菌特点及主要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99640" y="221760"/>
            <a:ext cx="70009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氨基糖苷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96800" y="2940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天然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316320" y="44737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阿米卡星、奈替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异帕卡星、阿贝卡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2782800" y="2325600"/>
            <a:ext cx="228600" cy="1457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800 h 1457280"/>
              <a:gd name="textAreaBottom" fmla="*/ 141948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3087720" y="4780080"/>
            <a:ext cx="152280" cy="690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8000 h 690480"/>
              <a:gd name="textAreaBottom" fmla="*/ 67248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992840" y="1711440"/>
            <a:ext cx="228600" cy="99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920 h 998280"/>
              <a:gd name="textAreaBottom" fmla="*/ 972360 h 99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5297400" y="3282840"/>
            <a:ext cx="177840" cy="797040"/>
          </a:xfrm>
          <a:custGeom>
            <a:avLst/>
            <a:gdLst>
              <a:gd name="textAreaLeft" fmla="*/ 113760 w 177840"/>
              <a:gd name="textAreaRight" fmla="*/ 177840 w 177840"/>
              <a:gd name="textAreaTop" fmla="*/ 20520 h 797040"/>
              <a:gd name="textAreaBottom" fmla="*/ 776520 h 79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011400" y="20192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链霉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011400" y="347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小单胞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221440" y="1481040"/>
            <a:ext cx="2895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霉素、卡那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新霉素、妥布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大观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403960" y="30718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庆大霉素、西索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小诺米星、福提米星                                                              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60360" y="4933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半合成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分类与药物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25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有机强碱，极性高，解离度大，肌注吸收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低，主要分布于细胞外；在内耳淋巴液和肾皮质浓度高；可透过胎盘屏障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不被代谢，原型从肾小球滤过。治疗尿路感染时，碱化尿液抗菌作用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种需氧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大肠埃希菌、铜绿假单胞菌、变形杆菌属、克雷伯菌属、肠杆菌属、志贺菌属和枸橼酸杆菌属均有强大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门菌属、沙雷菌属、产碱杆菌属、不动杆菌属和嗜血杆菌属也有一定的抗菌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淋病奈瑟菌、脑膜炎奈瑟菌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弱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有较好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组链球菌作用弱，对肠球菌和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、卡那霉素还对结核分枝杆菌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细菌蛋白质合成的起始、延伸、终止阶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吸附作用与菌体胞质膜结合，使通透性增加，胞质内大量重要物质外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BA54-6C2E-4D6D-B025-4C70035624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抗菌作用机制和细菌耐药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5880" y="1196640"/>
            <a:ext cx="781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机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细菌体内青霉素结合蛋白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-binding proteins, PBP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抑制细菌细胞壁合成，使菌体失去渗透屏障而膨胀、裂解，同时借助细菌自溶酶溶解菌体而发挥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已经合成的细胞壁无影响，故对繁殖期细菌作用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动物的细胞没有细胞壁，故对人和动物的毒性很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3120" y="180288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生钝化酶修饰氨基糖苷类，导致交叉耐药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膜通透性降低，菌体内药物浓度下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靶位修饰，致使对链霉素的亲和力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2200" y="1125360"/>
            <a:ext cx="7993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需氧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全身感染，如脑膜炎、呼吸道、泌尿道、皮肤软组织、胃肠道、烧伤、创伤及骨关节感染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败血症、肺炎、脑膜炎等严重感染，需联合应用广谱青霉素、第三代头孢菌素及氟喹诺酮类等其他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的抗菌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用于治疗消化道感染、肠道术前准备和肝性脑病，如新霉素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制成外用软膏、眼膏或冲洗液治疗局部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链霉素、卡那霉素还可作为结核治疗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耳毒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前庭神经损害和耳蜗听神经损害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经常询问患者是否有耳鸣、眩晕等先兆症状，并进行听力监测，根据肾功能调整用药方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尽量避免与其他耳毒性的药物合用，如万古霉素、强效利尿药、镇吐药、甘露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、具有镇静作用的其他类药物因可抑制患者的反应，合用时也要慎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肾毒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糖苷类是诱发药源性肾衰的最常见因素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肾功能，若出现蛋白尿、管型尿、血尿素氮及肌酐升高、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量少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0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现象，应立即停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条件的可做血药浓度监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合用有肾毒性的药物，如多粘菌素、万古霉素、第一代头孢菌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神经肌肉阻滞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旦发生，应立即静脉注射新斯的明和钙剂抢救。避免合用肌肉松弛药、全麻药等。血钙过低、重症肌无力患者禁用或慎用该类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过敏反应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皮疹、发热、血管神经性水肿、口周麻木等常见。链霉素可引起过敏性休克，其发生率仅次于青霉素，防治措施同青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常用的氨基糖苷类药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62080" y="1197000"/>
            <a:ext cx="75866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streptomyc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土拉菌、鼠疫杆菌、布鲁菌属作用强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杆菌是抑菌而不是杀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铜绿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活性最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兔热病首选；②鼠疫首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西环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病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抗结核药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性心内膜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为过敏反应和耳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庆大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gentamy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铜绿假单胞菌作用强，对金葡菌有作用，对结核杆菌无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各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，尤其对沙雷菌属感为氨基糖苷类中的首选药；与青霉素或其他抗生素合用治疗肺炎球菌、铜绿假单胞菌、肠球菌、葡萄球菌或草绿色链球菌引起的严重感染；还用于皮肤、黏膜表面感染和眼、耳、鼻部感染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有耳毒性、肾毒性和神经肌肉阻滞，偶可发生过敏反应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依替米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etimi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51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、抗菌活性强、毒性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良好抗菌作用，尤其对大肠埃希菌、肺炎克雷伯杆菌、沙雷菌属、奇异变形杆菌、沙门均属、流感嗜血杆菌及葡萄球菌属等有较高的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耳毒性、肾毒性和神经肌肉阻滞作用是目前本类药中发生率最低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氨基糖苷类抗生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妥布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铜绿假单胞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阿米卡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对其它氨基苷类耐药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新霉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卡那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外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西索米星，小诺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庆大似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奈替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大观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并发症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尤其铜绿假单胞菌，窄谱杀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增加细菌胞浆膜通透性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铜绿假单胞菌败血症、泌尿道及烧伤创面感染；也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脑膜炎、败血症等；与利福平、磺胺药及甲氧苄啶合用有协同作用，用于治疗多重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引起的医院内感染；口服用于肠道手术前准备和消化道感染；局部应用治疗创面、五官、呼吸道泌尿道及鞘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身给药毒性较大，常用量下即可产生肾损害和神经系统损害， 还可引起过敏反应、白细胞减少、肝损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E6B2-3B8B-4CB7-8EF8-0964AACDFE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85520" y="1196640"/>
            <a:ext cx="8178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产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药物结构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水解裂开，从而失去抗菌活性。前已发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，如青霉素酶、头孢菌素酶、广谱酶、金属酶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与药物结合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可与某些耐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迅速结合，使药物滞留在细胞外间隙中，不能到达作用靶位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改变靶位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通过改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、增加合成数量或产生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结合减少，失去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49192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865080" y="2743920"/>
            <a:ext cx="7147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第四节   四环素类及氯霉素类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Tetracyclines &amp; Chloramphenicols </a:t>
            </a:r>
            <a:endParaRPr b="0" lang="en-US" sz="36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280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274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四环素类和氯霉素的抗菌谱、临床应用、不良反应及用要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四环素类和氯霉素的抗菌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四环素类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具有菲烷的基本骨架，酸、碱两性，在酸性溶液中较稳定，在碱性溶液中易破坏，药用其盐酸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菌谱、作用机制和临床应用相似，属快速抑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分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天然品：四环素、土霉素、金霉素、地美环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半合成品：多西环素、米诺环素、美他环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特点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6440" y="1341000"/>
            <a:ext cx="79992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：米诺环素＞多西环素＞美他环素＞地美环素＞四环素＞土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新型高效抗菌药的不断出现，四环素类药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物的不良反应成为突出问题，四环素已不再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为本类药物的首选药。首选多西环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土霉素仍可用于治疗肠阿米巴病，疗效优于其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他同类药物；对细菌感染很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金霉素仅保留外用制剂治疗结膜炎和沙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结合，阻止氨基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抑制肽链延长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细菌细胞膜通透性，使菌体内核苷酸及其他重要成分外漏，抑制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浓度时具有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0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四环素类药物仍可作为下述疾病的首选药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（斑疹伤寒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热和恙虫病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原体感染（支原体肺炎和泌尿生殖系感染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衣原体感染（鹦鹉热、沙眼和性病性淋巴肉芽肿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螺旋体感染（回归热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幽门螺杆菌感染引起的消化性溃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肉芽肿鞘杆菌感染引起的腹股沟肉芽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鼠疫、布鲁菌病、霍乱、牙周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四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tetra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828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特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抑制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极高浓度时杀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不如青霉素类和头孢菌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作用不如氨基糖苷类及氯霉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伤寒杆菌、副伤寒杆菌、铜绿假单胞菌、结核分枝杆菌、真菌和病毒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食物或药物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金属离子与四环素络合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碱性药、抑酸药、抗酸药降低四环素溶解度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酸性药物如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四环素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进入胎儿血循环及乳汁，并可沉积于新形成的牙齿和骨骼中。胆汁中浓度为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~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~5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可用于泌尿系统感染，碱化尿液增加药物排泄。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~9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局部刺激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可引起恶心、呕吐、腹泻等症状。肌内注射刺激性大，禁用。静滴易引起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二重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婴儿、老人、体弱者、合用糖皮质激素或抗肿瘤药的患者，使用四环素时易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真菌感染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由白假丝酵母菌引起，表现为鹅口疮、肠炎；应立即停药并进行抗真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假膜性肠炎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耐药的艰难梭菌感染所致，表现为剧烈腹泻、发热、肠壁坏死、体液渗出甚至休克 死亡；立即停药并口服万古霉素或甲硝唑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1560" y="1294920"/>
            <a:ext cx="8002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对骨骼和牙齿生长的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四环素类药物与新形成的骨骼和牙齿中沉积的钙离子结合，造成恒齿永久性棕色色素沉着（俗称牙齿黄染），牙釉质发育不全；还可抑制胎儿、婴幼儿骨骼发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长期大剂量使用可引起严重肝损伤或加重原有的肾损伤，多见于孕妇特别是肾功能异常的孕妇。偶见过敏反应，并有交叉过敏。也可引起光敏反应和前庭反应如头晕、恶心、呕吐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四环素类药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701C-89DE-4FED-918B-AB69B27AA9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降低菌膜通透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改变跨膜通道孔蛋白结构使药物不易进入菌内而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增强药物外排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可以借助胞质膜上的主动外排系统排出药物，从而形成低水平的非特异性、多重耐药，如大肠埃希菌、铜绿假单胞菌、金黄色葡萄球菌、表皮葡萄球菌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缺乏自溶酶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细菌（如金黄色葡萄球菌）的自溶酶缺乏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杀菌作用减弱或仅有抑菌作用的原因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多西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oxy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62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长效半合成四环素类，是四环素类的首选药；抗菌活性比四环素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具有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效、速效、长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点；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~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大部分随胆汁排泄。少量经肾排泄，肾功能减退时胆汁排泄药物增多，故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肾衰竭时也可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饭后服用，以大量水送服，服药后保持直立体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以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避免引起食管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静脉注射时，可能出现舌麻木及口腔异味感。易致光敏反应。其他不良反应少于四环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米诺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ino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5540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脑脊液中浓度较高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于其他同类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对四环素或青霉素类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金葡菌和大肠埃希菌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酒糟鼻、痤疮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、沙眼衣原体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性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以及上述耐药菌引起的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四环素类共有的不良反应外，还可引起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前庭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首剂可迅速出现，用药期间不宜从事高空、驾驶和精密作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氯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hloramphenico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广泛分布到全身组织和体液，脑脊液中的浓度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5%~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也能进入胎儿体内和乳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葡萄糖醛酸转移酶的作用下与葡糖醛酸结合而失活，代谢产物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型药物由尿排泄，在泌尿系统可达到有效抗菌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琥珀氯霉素在水解前已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使生物利用度降低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000" y="1329840"/>
            <a:ext cx="79311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但对流感嗜血杆菌、脑膜炎奈瑟菌、肺炎链球菌具有杀灭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不如青霉素类和四环素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立克次体、衣原体、支原体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分枝杆菌、真菌和原虫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012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可逆性结合，抑制肽酰基转移酶，阻止肽链延伸，使蛋白质合成受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位点与大环内酯类及林可霉素类十分接近，故与这些药物合用可能相互竞争作用靶点，产生拮抗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7320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对氯霉素产生耐药性较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主要通过产生乙酰转移酶，使氯霉素乙酰化而失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如流感嗜血杆菌或伤寒沙门菌等，通过染色体突变使外膜特异性蛋白质缺失，造成外膜通透性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证，一般不作首选药，用药期间定期检查血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菌诱发的严重感染  无法使用青霉素类的脑膜炎、多药耐药的流感嗜血杆菌感染，且病情严重，危及生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  应首选氟喹诺酮类或第三代头孢菌素。由于氯霉素成本低廉，某些国家和地区仍用于伤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  立克次体重度感染的孕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、四环素类药物过敏者可选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与其他抗菌药合用，治疗腹腔或盆腔厌氧菌感染。也可作为眼科的局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血液系统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可逆性血细胞减少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常见，发生率和严重程度与剂量大或疗程长有关，及时停药可恢复。部分患者可能发展成致死性再生障碍性贫血或急性髓细胞性白血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再生障碍性贫血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率与用药量、疗程无关，一次用药亦可发生。发生率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），但死亡率很高。多在停药数周或数月后发生。幸存者日后发展为白血病的几率很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症；监测血象，发现异常立即停药；剂量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1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疗程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；避免反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灰婴综合征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原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早产儿和新生儿肝脏缺乏葡萄糖醛酸转移酶，肾排泄功能不完善，对氯霉素解毒能力差，剂量过大可致中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表现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循环衰竭、呼吸困难、进行性血压下降、皮肤苍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发绀，故称灰婴综合征。一般发生于治疗的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至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，症状出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的死亡率可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、早产儿、妊娠后期和哺乳期及肝功能减退者不宜使用氯霉素，婴幼儿患者必须使用本药时需注意调整剂量和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症状：口服用药时出现恶心、呕吐、腹泻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：少数患者有皮疹、药热、血管神经性水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视神经炎、视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二重感染、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缺乏症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溶血性贫血（葡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6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磷酸脱氢酶缺陷者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0" y="1440"/>
            <a:ext cx="9144000" cy="68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青霉素类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4920" y="134100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铜绿假单胞菌广谱青霉素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青霉素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窄谱青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96920" y="1371240"/>
            <a:ext cx="757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然的青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不耐酶的半合成青霉素：如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m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甲青霉素）、非奈西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et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乙青霉素）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38:04Z</dcterms:modified>
  <cp:revision>219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